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7.jpeg" ContentType="image/jpeg"/>
  <Override PartName="/ppt/media/image16.png" ContentType="image/png"/>
  <Override PartName="/ppt/media/image5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EEC3-2B12-46E1-BE30-A1CF175DB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2347-9A0A-4BCC-9A3A-1902836F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B8FB-485D-48CD-BD17-90474B0F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A967-D0B6-4630-87EF-C34741AE3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36AF-36BD-4D62-A310-CB265456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ACF7-2A47-4D3B-9534-17B98DA4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C1CE-5666-48F2-8E7F-66287F70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25B4-D641-4032-8599-46D4D8D4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2E58-C247-4033-80DC-E16460B7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7056-59EA-472B-A644-D4D2621B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E26C-A7A8-48AA-9A6E-38A65BDC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BDE7-54A8-4361-A721-F5EC2FEC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BAAD-3D96-447E-8C46-C161AD83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281D-3877-4253-ADAA-1BB7C628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7F6F-73FA-4007-97BA-F151843D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62AC-1549-4136-9A59-573F826BF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2A5A-070D-4D12-9C42-431256A8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016A-5366-47BA-94D9-14E7F7BE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DAF5-C406-4D89-8083-3584F1E9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2FC6-AB96-4AA6-952C-7AEE2A9F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1E3D-2EF9-4CAD-826F-3BB423E2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EDA4-9202-4F88-ACC8-FEE84AFE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F198-A7D6-49D3-B017-DF8A2386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C857-F6C9-4215-8EDE-D4700094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E205-1322-4F55-AA3B-0F544E20087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3BBE-AE04-45F9-BCB1-B1BC70F3958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y Jerin, Kayle, Katie O., Alex, Bethany And Kirsta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Picture 5" descr="http://t2.gstatic.com/images?q=tbn:kFZaLcfwqeKlaM:http://www.destination360.com/maps/central-america-map.gif"/>
          <p:cNvPicPr/>
          <p:nvPr/>
        </p:nvPicPr>
        <p:blipFill>
          <a:blip r:embed="rId2"/>
          <a:stretch/>
        </p:blipFill>
        <p:spPr>
          <a:xfrm>
            <a:off x="5029200" y="4157640"/>
            <a:ext cx="4114800" cy="2700360"/>
          </a:xfrm>
          <a:prstGeom prst="rect">
            <a:avLst/>
          </a:prstGeom>
          <a:ln w="0">
            <a:noFill/>
          </a:ln>
        </p:spPr>
      </p:pic>
      <p:pic>
        <p:nvPicPr>
          <p:cNvPr id="85" name="MSj00822050000[1].mi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9 -0.18634 C -0.03611 -0.21574 -0.03715 -0.21806 -0.04306 -0.2419 C -0.04358 -0.2463 -0.04358 -0.2507 -0.04444 -0.25486 C -0.04497 -0.25764 -0.04705 -0.25949 -0.0474 -0.26227 C -0.04792 -0.2757 -0.04531 -0.28889 -0.04167 -0.30116 C -0.04497 -0.31921 -0.05451 -0.33333 -0.06111 -0.34931 C -0.08455 -0.40625 -0.04497 -0.32199 -0.08056 -0.40116 C -0.08576 -0.4125 -0.09236 -0.42292 -0.09722 -0.43449 C -0.1224 -0.49421 -0.15052 -0.58681 -0.19462 -0.63079 C -0.20868 -0.64491 -0.22691 -0.65046 -0.24323 -0.65857 C -0.26719 -0.65718 -0.2901 -0.65602 -0.3125 -0.64375 C -0.34774 -0.62454 -0.3717 -0.58125 -0.38073 -0.53264 C -0.38003 -0.52454 -0.38021 -0.51644 -0.37934 -0.50857 C -0.37847 -0.50301 -0.37309 -0.49537 -0.37083 -0.4919 C -0.36562 -0.48264 -0.35937 -0.46945 -0.35139 -0.46412 C -0.33872 -0.45579 -0.31094 -0.45556 -0.3 -0.45486 C -0.30104 -0.4412 -0.30122 -0.42755 -0.30278 -0.41412 C -0.30642 -0.38148 -0.31406 -0.3507 -0.325 -0.32153 C -0.3316 -0.30394 -0.33941 -0.2912 -0.35434 -0.28634 C -0.39983 -0.29514 -0.44618 -0.30995 -0.48472 -0.3456 C -0.4967 -0.35671 -0.51059 -0.37338 -0.51823 -0.39005 C -0.52153 -0.39745 -0.52795 -0.41227 -0.52795 -0.41204 C -0.53194 -0.43148 -0.53437 -0.44861 -0.5375 -0.46782 C -0.53715 -0.48264 -0.5375 -0.49745 -0.53628 -0.51227 C -0.53559 -0.51898 -0.52743 -0.55255 -0.52378 -0.56042 C -0.5224 -0.56296 -0.51979 -0.56389 -0.51823 -0.56597 C -0.50538 -0.58287 -0.49149 -0.58843 -0.47361 -0.5919 C -0.46476 -0.59074 -0.4559 -0.5912 -0.44722 -0.5882 C -0.44306 -0.58681 -0.43993 -0.58171 -0.43628 -0.57894 C -0.42378 -0.56968 -0.40885 -0.55903 -0.40139 -0.5419 C -0.39861 -0.53565 -0.39201 -0.52083 -0.39045 -0.51412 C -0.38802 -0.50579 -0.38472 -0.4882 -0.38472 -0.48796 C -0.38299 -0.46968 -0.38194 -0.45671 -0.38472 -0.4382 C -0.38594 -0.41806 -0.38663 -0.40116 -0.39045 -0.38079 C -0.40035 -0.32454 -0.40937 -0.27546 -0.43194 -0.22708 C -0.43819 -0.21389 -0.44514 -0.19653 -0.45556 -0.1882 C -0.46615 -0.17963 -0.47691 -0.17732 -0.48889 -0.17338 C -0.49965 -0.17523 -0.51042 -0.17662 -0.52083 -0.17894 C -0.54931 -0.18519 -0.56389 -0.21111 -0.58056 -0.2382 C -0.58264 -0.24445 -0.58455 -0.25046 -0.58611 -0.25671 C -0.58924 -0.26945 -0.59444 -0.2956 -0.59444 -0.29537 C -0.59549 -0.31181 -0.59861 -0.32755 -0.59861 -0.34375 C -0.59861 -0.36713 -0.59757 -0.39074 -0.59601 -0.41412 C -0.59288 -0.46343 -0.56181 -0.5331 -0.5224 -0.5419 C -0.51059 -0.54074 -0.49896 -0.54144 -0.4875 -0.5382 C -0.48003 -0.53611 -0.4691 -0.51921 -0.46389 -0.51227 C -0.45226 -0.47685 -0.4559 -0.49329 -0.45139 -0.46412 C -0.44878 -0.4213 -0.44965 -0.45301 -0.45434 -0.38449 C -0.45521 -0.36806 -0.4559 -0.34097 -0.45833 -0.32523 C -0.46059 -0.3132 -0.46406 -0.30185 -0.46684 -0.29005 C -0.47882 -0.2338 -0.50208 -0.14259 -0.55434 -0.13264 C -0.56215 -0.13449 -0.5724 -0.13542 -0.57917 -0.1419 C -0.59601 -0.15718 -0.60955 -0.18171 -0.61944 -0.20486 C -0.62274 -0.22269 -0.62587 -0.24074 -0.62917 -0.25857 C -0.63351 -0.32732 -0.6276 -0.40046 -0.56944 -0.41968 C -0.55521 -0.41574 -0.54045 -0.40949 -0.53056 -0.39375 C -0.52795 -0.38935 -0.52639 -0.38357 -0.52378 -0.37894 C -0.52101 -0.37431 -0.51823 -0.37037 -0.51528 -0.36597 C -0.51389 -0.36111 -0.51233 -0.35625 -0.51128 -0.35116 C -0.50833 -0.33889 -0.50278 -0.31412 -0.50278 -0.31389 C -0.50122 -0.28727 -0.4974 -0.26134 -0.49583 -0.23449 C -0.49983 -0.1787 -0.49705 -0.14144 -0.53056 -0.10486 C -0.53733 -0.09769 -0.54045 -0.09468 -0.54878 -0.0919 C -0.55833 -0.09375 -0.56562 -0.0956 -0.57361 -0.10301 C -0.57743 -0.10648 -0.5849 -0.11412 -0.5849 -0.11389 C -0.58611 -0.11713 -0.58663 -0.12176 -0.58889 -0.12338 C -0.59045 -0.12431 -0.58924 -0.11898 -0.59045 -0.11782 C -0.59219 -0.11574 -0.59479 -0.11505 -0.5974 -0.11412 C -0.60625 -0.11065 -0.61597 -0.11019 -0.625 -0.10857 C -0.63194 -0.11042 -0.63906 -0.11111 -0.64601 -0.11412 C -0.65139 -0.11667 -0.65573 -0.12245 -0.66111 -0.12523 C -0.6625 -0.12824 -0.66372 -0.13171 -0.66528 -0.13449 C -0.66649 -0.13657 -0.6684 -0.13796 -0.66944 -0.14005 C -0.6724 -0.14583 -0.67274 -0.15764 -0.67361 -0.16412 C -0.67309 -0.17523 -0.67448 -0.18681 -0.67222 -0.19745 C -0.66927 -0.21065 -0.65122 -0.21782 -0.64306 -0.21968 C -0.63611 -0.21898 -0.62917 -0.21945 -0.62222 -0.21782 C -0.58924 -0.20972 -0.58142 -0.15857 -0.57361 -0.12338 C -0.56771 -0.06667 -0.56545 -0.01898 -0.56944 0.03958 C -0.5724 0.08055 -0.58455 0.12824 -0.6125 0.15069 C -0.6276 0.16273 -0.63073 0.16042 -0.64861 0.16366 C -0.67604 0.15833 -0.69253 0.16018 -0.71128 0.13218 C -0.71615 0.12454 -0.72031 0.1162 -0.725 0.1081 C -0.73108 0.08495 -0.73698 0.06852 -0.7375 0.04329 C -0.73872 -0.0213 -0.70903 -0.11528 -0.65833 -0.13449 C -0.65226 -0.13333 -0.64601 -0.13333 -0.64028 -0.13079 C -0.63576 -0.12894 -0.62587 -0.11667 -0.62361 -0.11227 C -0.61024 -0.08704 -0.6 -0.05833 -0.59306 -0.02894 C -0.58924 -0.0125 -0.58351 0.02106 -0.58351 0.0213 C -0.58108 0.04468 -0.58073 0.08102 -0.5974 0.09699 C -0.60625 0.10555 -0.61875 0.10833 -0.62917 0.1118 C -0.65851 0.10718 -0.6816 0.10579 -0.69601 0.06736 C -0.70538 0.01042 -0.67535 -0.03773 -0.63472 -0.05116 C -0.60538 -0.04861 -0.58038 -0.03843 -0.56545 -0.00116 C -0.56181 0.00764 -0.56007 0.01736 -0.55694 0.02662 C -0.55764 0.03518 -0.55764 0.04398 -0.55833 0.05255 C -0.55868 0.05625 -0.55833 0.06042 -0.5599 0.06366 C -0.56215 0.06898 -0.57118 0.07801 -0.575 0.08218 C -0.58021 0.08148 -0.58542 0.08241 -0.59045 0.08032 C -0.60851 0.07245 -0.62986 0.05231 -0.63472 0.02662 C -0.63455 0.02454 -0.63351 -0.0081 -0.62656 -0.01597 C -0.62344 -0.01945 -0.61545 -0.02338 -0.61545 -0.02315 C -0.60764 -0.02222 -0.59931 -0.02245 -0.59167 -0.01968 C -0.58854 -0.01852 -0.57708 -0.00532 -0.575 -0.00301 C -0.55851 0.01713 -0.5467 0.03403 -0.5375 0.0618 C -0.53264 0.10671 -0.55382 0.13403 -0.5849 0.14143 C -0.59358 0.13889 -0.6026 0.1375 -0.61111 0.13403 C -0.6276 0.12731 -0.63403 0.10532 -0.63889 0.08588 C -0.6375 0.07292 -0.63698 0.05972 -0.63472 0.04699 C -0.6276 0.00579 -0.58889 -0.00602 -0.5625 -0.00857 C -0.53524 -0.00532 -0.50521 -0.00232 -0.4974 0.03958 C -0.50729 0.09884 -0.5467 0.13634 -0.58889 0.15255 C -0.60937 0.14884 -0.62222 0.15023 -0.6375 0.13403 C -0.6526 0.08009 -0.59774 0.0537 -0.56806 0.04514 C -0.5599 0.04282 -0.55139 0.04097 -0.54306 0.03958 C -0.5375 0.03866 -0.53194 0.03843 -0.52639 0.03773 C -0.51667 0.03912 -0.50677 0.04005 -0.4974 0.04329 C -0.48889 0.05069 -0.49583 0.05764 -0.50278 0.06366 C -0.52604 0.08426 -0.5467 0.09491 -0.57361 0.10255 C -0.59549 0.09722 -0.61753 0.08981 -0.63073 0.06366 C -0.62917 0.05926 -0.62847 0.0544 -0.62656 0.05069 C -0.61667 0.0331 -0.59045 0.03194 -0.57639 0.03032 C -0.56181 0.03218 -0.55 0.03518 -0.53628 0.04143 C -0.53524 0.04236 -0.52708 0.05 -0.52639 0.05255 C -0.52326 0.06736 -0.54358 0.07268 -0.55 0.07477 C -0.57795 0.06898 -0.58663 0.06875 -0.60556 0.04329 C -0.60694 0.03935 -0.61024 0.0294 -0.60972 0.02477 C -0.6066 -0.00579 -0.58646 -0.01111 -0.56684 -0.01412 C -0.55903 -0.01296 -0.55052 -0.01366 -0.54306 -0.01042 C -0.52778 -0.00394 -0.52083 0.01134 -0.51823 0.03032 C -0.52066 0.04954 -0.52535 0.04954 -0.53889 0.05255 C -0.54045 0.05208 -0.55608 0.04722 -0.55833 0.04514 C -0.56406 0.04005 -0.5684 0.03241 -0.57361 0.02662 C -0.5783 0.0081 -0.58576 -0.0132 -0.56684 -0.02338 C -0.56406 -0.02477 -0.56111 -0.02454 -0.55833 -0.02523 C -0.5533 -0.02454 -0.54826 -0.025 -0.54306 -0.02338 C -0.52639 -0.01829 -0.51823 0.00532 -0.51389 0.02477 C -0.51528 0.03218 -0.51545 0.04005 -0.51823 0.04699 C -0.51997 0.05162 -0.52326 0.05532 -0.52639 0.0581 C -0.56389 0.08843 -0.55608 0.08264 -0.59306 0.08958 C -0.62778 0.08449 -0.6349 0.0838 -0.6625 0.06551 C -0.66389 0.06296 -0.6651 0.06042 -0.66667 0.0581 C -0.66788 0.05602 -0.67083 0.05509 -0.67083 0.05255 C -0.67083 0.02083 -0.64097 0.01643 -0.62361 0.01366 C -0.61545 0.01505 -0.60781 0.01343 -0.60295 0.02292 C -0.61024 0.03889 -0.61597 0.05648 -0.625 0.07106 C -0.64462 0.10278 -0.67101 0.11319 -0.7 0.11551 C -0.7283 0.10764 -0.75139 0.09606 -0.77656 0.07662 C -0.78681 0.06852 -0.79705 0.06042 -0.80417 0.04699 C -0.79288 0.03194 -0.77569 0.03819 -0.76111 0.03958 C -0.75469 0.04213 -0.74809 0.04444 -0.74167 0.04699 C -0.73941 0.04792 -0.7441 0.05255 -0.74583 0.0544 C -0.74878 0.05741 -0.75208 0.06018 -0.75556 0.0618 C -0.76285 0.06528 -0.77569 0.06643 -0.78333 0.06736 C -0.79688 0.06018 -0.80313 0.05625 -0.8125 0.04143 C -0.825 -0.025 -0.78281 -0.08935 -0.73472 -0.09745 C -0.7283 -0.0963 -0.72187 -0.09583 -0.71528 -0.09375 C -0.70122 -0.08912 -0.69253 -0.0662 -0.68628 -0.05116 C -0.68194 -0.02755 -0.68229 -0.01458 -0.68628 0.00995 C -0.6875 0.01829 -0.68854 0.02199 -0.69444 0.02477 C -0.70122 0.01597 -0.70469 0.0088 -0.70833 -0.00301 C -0.71094 -0.02037 -0.7125 -0.0375 -0.71406 -0.05486 C -0.71337 -0.06157 -0.71406 -0.06875 -0.7125 -0.07523 C -0.71059 -0.08449 -0.68281 -0.07245 -0.67778 -0.06968 C -0.64323 -0.04931 -0.60694 -0.01458 -0.59306 0.03403 C -0.59271 0.03773 -0.59236 0.04143 -0.59167 0.04514 C -0.59132 0.04699 -0.59149 0.05185 -0.59045 0.05069 C -0.58351 0.04352 -0.58264 0.02917 -0.57639 0.02106 C -0.55694 -0.0037 -0.55955 -0.0007 -0.54184 -0.00671 C -0.53125 -0.00509 -0.5224 -0.0037 -0.5125 0.00069 C -0.50174 0.01227 -0.49965 0.01204 -0.49306 0.02477 C -0.49149 0.02778 -0.48993 0.03079 -0.48889 0.03403 C -0.48767 0.0375 -0.48611 0.04514 -0.48611 0.04537 C -0.48663 0.04884 -0.48576 0.05347 -0.4875 0.05625 C -0.49062 0.06134 -0.50017 0.06736 -0.50017 0.06759 C -0.51076 0.06319 -0.51285 0.06412 -0.51684 0.05069 C -0.51476 0.03958 -0.51441 0.02801 -0.51128 0.01736 C -0.50312 -0.01042 -0.47326 -0.03056 -0.45278 -0.03449 C -0.45087 -0.03403 -0.43854 -0.0338 -0.4375 -0.02708 C -0.43576 -0.01597 -0.43906 0.00116 -0.44306 0.0118 E">
                                      <p:cBhvr>
                                        <p:cTn id="6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9628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autiful mountain ranges with wildlife everywhere even beaches with wonderful bright blue water and white sand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8" name="Picture 2" descr="See full size image"/>
          <p:cNvPicPr/>
          <p:nvPr/>
        </p:nvPicPr>
        <p:blipFill>
          <a:blip r:embed="rId2"/>
          <a:stretch/>
        </p:blipFill>
        <p:spPr>
          <a:xfrm>
            <a:off x="2133720" y="3276720"/>
            <a:ext cx="2076480" cy="1752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most popular product offered is sweet sugar cane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323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re is copper ,gold.and silver and much and a large amount of delish cashew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Picture 7" descr="See full size image"/>
          <p:cNvPicPr/>
          <p:nvPr/>
        </p:nvPicPr>
        <p:blipFill>
          <a:blip r:embed="rId2"/>
          <a:stretch/>
        </p:blipFill>
        <p:spPr>
          <a:xfrm>
            <a:off x="3352680" y="3886200"/>
            <a:ext cx="2590920" cy="1930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323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me of the major cities in Central America are San Salvador, Honduras , Panama city and,  Managua.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6" name="Picture 2" descr="http://hotelroyalrentacar.com/WilliamMartinez/images/SanSalvadorTower.jpg"/>
          <p:cNvPicPr/>
          <p:nvPr/>
        </p:nvPicPr>
        <p:blipFill>
          <a:blip r:embed="rId2"/>
          <a:stretch/>
        </p:blipFill>
        <p:spPr>
          <a:xfrm>
            <a:off x="3276720" y="2851200"/>
            <a:ext cx="3124080" cy="21207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anama is warm all year with one dry seaso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sta Rica East side warm all year and west is rainy and we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lize is  warm all yea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re is aproxamatly 41,739,000 people in central america and I am sure you could find some pretty intresting people in that numb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1" name="Picture 5" descr="http://findwally.co.uk/fankit/graphics/IntlManOfLiterature/Scenes/DepartmentStore.jpg"/>
          <p:cNvPicPr/>
          <p:nvPr/>
        </p:nvPicPr>
        <p:blipFill>
          <a:blip r:embed="rId2"/>
          <a:stretch/>
        </p:blipFill>
        <p:spPr>
          <a:xfrm>
            <a:off x="990720" y="2895480"/>
            <a:ext cx="6781680" cy="3962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285840" y="1365120"/>
            <a:ext cx="8692920" cy="20545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ave a great trip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http://www.enjoyfrance.com/images/stories/world/entertainment/Johnny-Depp-rumour.jpg"/>
          <p:cNvPicPr/>
          <p:nvPr/>
        </p:nvPicPr>
        <p:blipFill>
          <a:blip r:embed="rId2"/>
          <a:stretch/>
        </p:blipFill>
        <p:spPr>
          <a:xfrm>
            <a:off x="380880" y="0"/>
            <a:ext cx="83059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20:03:46Z</dcterms:created>
  <dc:creator>Jeffco Schools</dc:creator>
  <dc:description/>
  <dc:language>en-US</dc:language>
  <cp:lastModifiedBy>Jeffco Schools</cp:lastModifiedBy>
  <dcterms:modified xsi:type="dcterms:W3CDTF">2010-04-16T18:36:34Z</dcterms:modified>
  <cp:revision>11</cp:revision>
  <dc:subject/>
  <dc:title>Welome to your dream destanation</dc:title>
</cp:coreProperties>
</file>